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0120" y="404640"/>
            <a:ext cx="849240" cy="968400"/>
            <a:chOff x="600120" y="404640"/>
            <a:chExt cx="849240" cy="968400"/>
          </a:xfrm>
        </p:grpSpPr>
        <p:sp>
          <p:nvSpPr>
            <p:cNvPr id="1" name=""/>
            <p:cNvSpPr/>
            <p:nvPr/>
          </p:nvSpPr>
          <p:spPr>
            <a:xfrm>
              <a:off x="658800" y="40464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58800" y="40464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6880" y="43020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49320" y="442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6560" y="48096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09800" y="4921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46160" y="50004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44720" y="509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5160" y="52056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69840" y="528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79560" y="5396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65240" y="6271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62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720" y="627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55800" y="62712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64944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720" y="6494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63720" y="64944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22400" y="6494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55800" y="66996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85680" y="69372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009800" y="69516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44720" y="69840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65160" y="70164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25640" y="79524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760" y="80028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028880" y="83016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0240" y="8334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79560" y="849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1560" y="947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5800" y="100008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82520" y="100008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4760" y="10936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05040" y="80964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36800" y="80964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87480" y="8524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8840" y="95580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66960" y="100476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89000" y="10080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57320" y="84312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69840" y="84312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0" y="84312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4880" y="841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7600" y="9144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79560" y="93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3480" y="9730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810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5160" y="98748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6600" y="10033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6720" y="1004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400" y="103356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640" y="107640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3480" y="107784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040" y="108576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280" y="108900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040" y="10936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11066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40" y="11095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800" y="1112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2640" y="1116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62120" y="111600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960" y="11239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9280" y="11271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080" y="1136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6800" y="113652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48800" y="114948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9160" y="114948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3960" y="97632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5240" y="977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25520" y="9874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316160" y="10000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2280" y="100332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3320" y="100980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32000" y="10126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82760" y="104148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0040" y="107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4600" y="108576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5760" y="108432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3680" y="1087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9920" y="10875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9000" y="1093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5400" y="1092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10922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1000" y="109224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0200" y="109548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25520" y="11016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4520" y="1104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3200" y="110484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43080" y="1112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39840" y="11160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43160" y="11271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9840" y="11253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9520" y="112536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38400" y="113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113508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9440" y="11430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1000" y="115092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15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20" y="109548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9160" y="9810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98568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98892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9921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6800" y="99540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200" y="10033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4240" y="1003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4240" y="100332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109872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8240" y="111456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66960" y="102384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5920" y="108900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23840" y="10954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30320" y="11048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8640" y="1106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440" y="11541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240" y="118116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200" y="120816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3040" y="122400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12463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960" y="12398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640" y="126540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5960" y="1271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0880" y="1276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1292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960" y="12826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7720" y="128592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13003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12780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80" y="118584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6760" y="125424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28680" y="12463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1000" y="12333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121428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7600" y="118908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3960" y="11811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2388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62388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800" y="62388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62388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1400" y="84600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2000" y="8460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54760" y="419040"/>
            <a:ext cx="898560" cy="1013040"/>
            <a:chOff x="7754760" y="419040"/>
            <a:chExt cx="898560" cy="1013040"/>
          </a:xfrm>
        </p:grpSpPr>
        <p:sp>
          <p:nvSpPr>
            <p:cNvPr id="143" name=""/>
            <p:cNvSpPr/>
            <p:nvPr/>
          </p:nvSpPr>
          <p:spPr>
            <a:xfrm>
              <a:off x="7862760" y="419040"/>
              <a:ext cx="684360" cy="80172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75720" y="436680"/>
              <a:ext cx="660240" cy="77292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94720" y="9000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4760" y="1125360"/>
              <a:ext cx="130320" cy="1652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8480" y="1182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3160" y="1177920"/>
              <a:ext cx="152280" cy="14616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9160" y="1262160"/>
              <a:ext cx="417600" cy="16200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5760" y="1357200"/>
              <a:ext cx="58680" cy="288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4320" y="1314360"/>
              <a:ext cx="20628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55160" y="1351080"/>
              <a:ext cx="5688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4920" y="1260360"/>
              <a:ext cx="414360" cy="16524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1200" y="1171440"/>
              <a:ext cx="155520" cy="15264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992160"/>
              <a:ext cx="17964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9200" y="117792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2720" y="1135080"/>
              <a:ext cx="120600" cy="15552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0840" y="99864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20120" y="898560"/>
              <a:ext cx="96840" cy="14292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20120" y="950760"/>
              <a:ext cx="44280" cy="1130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46920" y="955800"/>
              <a:ext cx="44640" cy="1173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0840" y="1328760"/>
              <a:ext cx="5040" cy="284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29640" y="1346040"/>
              <a:ext cx="4680" cy="2880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6000" y="135720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416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5560" y="1338120"/>
              <a:ext cx="288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2440" y="13222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39160" y="130968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6400" y="129384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32760" y="129852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77120" y="1300320"/>
              <a:ext cx="324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9960" y="13003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6920" y="131760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3280" y="132876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2880" y="13399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844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1280" y="136224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210520" y="692280"/>
              <a:ext cx="4752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40680" y="60480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0160" y="579600"/>
              <a:ext cx="152280" cy="187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90000" y="579600"/>
              <a:ext cx="9036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1600" y="579600"/>
              <a:ext cx="117360" cy="2844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28080" y="660240"/>
              <a:ext cx="145800" cy="2412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51920" y="60480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90000" y="88416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199360" y="679320"/>
              <a:ext cx="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5840" y="6937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201160" y="6969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204040" y="693720"/>
              <a:ext cx="223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217000" y="680760"/>
              <a:ext cx="612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207280" y="696960"/>
              <a:ext cx="367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74160" y="6969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5080" y="606600"/>
              <a:ext cx="9036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0400" y="45576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7280" y="81612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5680" y="97956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94760" y="103824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58040" y="981000"/>
              <a:ext cx="81000" cy="1303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23320" y="812880"/>
              <a:ext cx="274680" cy="25092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19960" y="1039680"/>
              <a:ext cx="9396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96200" y="108252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8360" y="11145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05920" y="105048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334360" y="1073160"/>
              <a:ext cx="17640" cy="316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361360" y="1090080"/>
              <a:ext cx="1764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386920" y="1109160"/>
              <a:ext cx="1404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822240"/>
              <a:ext cx="3960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5080" y="693720"/>
              <a:ext cx="284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170920" y="680760"/>
              <a:ext cx="3168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6760" y="69228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9400" y="117360"/>
            <a:ext cx="8845200" cy="662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11200" y="6419880"/>
            <a:ext cx="26899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655308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-</a:t>
            </a:r>
            <a:fld id="{493B43DB-4390-4099-BB7F-769BB6C527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523880" y="547560"/>
            <a:ext cx="5799240" cy="5624640"/>
            <a:chOff x="1523880" y="547560"/>
            <a:chExt cx="5799240" cy="5624640"/>
          </a:xfrm>
        </p:grpSpPr>
        <p:grpSp>
          <p:nvGrpSpPr>
            <p:cNvPr id="254" name=""/>
            <p:cNvGrpSpPr/>
            <p:nvPr/>
          </p:nvGrpSpPr>
          <p:grpSpPr>
            <a:xfrm>
              <a:off x="4952880" y="2057400"/>
              <a:ext cx="2370240" cy="4114800"/>
              <a:chOff x="4952880" y="2057400"/>
              <a:chExt cx="2370240" cy="4114800"/>
            </a:xfrm>
          </p:grpSpPr>
          <p:graphicFrame>
            <p:nvGraphicFramePr>
              <p:cNvPr id="255" name=""/>
              <p:cNvGraphicFramePr/>
              <p:nvPr/>
            </p:nvGraphicFramePr>
            <p:xfrm>
              <a:off x="4952880" y="2057400"/>
              <a:ext cx="2370240" cy="4114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52880" y="2057400"/>
                        <a:ext cx="2370240" cy="411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7" name=""/>
              <p:cNvGrpSpPr/>
              <p:nvPr/>
            </p:nvGrpSpPr>
            <p:grpSpPr>
              <a:xfrm>
                <a:off x="5445000" y="4203720"/>
                <a:ext cx="878040" cy="812880"/>
                <a:chOff x="5445000" y="4203720"/>
                <a:chExt cx="878040" cy="812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445000" y="4203720"/>
                  <a:ext cx="812520" cy="81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89280" y="4330800"/>
                  <a:ext cx="8337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.S. ARM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INANC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CHOO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3352680" y="54756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PlaceHolder 1"/>
            <p:cNvSpPr>
              <a:spLocks noGrp="1"/>
            </p:cNvSpPr>
            <p:nvPr>
              <p:ph type="title"/>
            </p:nvPr>
          </p:nvSpPr>
          <p:spPr>
            <a:xfrm>
              <a:off x="1523880" y="2361960"/>
              <a:ext cx="2438640" cy="1523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txBody>
            <a:bodyPr lIns="90360" rIns="90360" tIns="44280" bIns="44280"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SCAL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8120" y="3886200"/>
              <a:ext cx="76176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676520" y="3886200"/>
              <a:ext cx="76176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38862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 of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8320" y="1676520"/>
            <a:ext cx="82396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one or two-digit code which identifies the period(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r fiscal year(s) (FYs) in which congress made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vailable for oblig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s the availability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(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Year (9/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Year (i.e. continuing)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s the state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, Multiple Year, and N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7120" y="2362320"/>
            <a:ext cx="81057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for only one FY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e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for a specifi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number of yea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over an indefini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99800" y="2438280"/>
            <a:ext cx="6979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requires that certain no-year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X) be tracked by fisca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year identifies the fisca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Foreign Military Sales, 97X82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2800" y="51444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s of an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99320" y="3657600"/>
            <a:ext cx="20325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752480"/>
            <a:ext cx="7620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scal year plus the appropriation determines the state of an appropriation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hree states of an appropr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90520" y="514440"/>
            <a:ext cx="31050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xpir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24382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is in the unexpired state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fiscal year(s) for which it was made avail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or obl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state, the appropriation can be used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oth obligations and disbursemen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9000" y="533520"/>
            <a:ext cx="25718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ir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057400"/>
            <a:ext cx="71629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lapses into the expired st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uring the fiscal year following the unexp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tate and remains in the expired state for f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state, the appropriation can be us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isburse or adjust existing obligation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dditional obligations will be incur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ithout major command approval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47720" y="514440"/>
            <a:ext cx="23432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1990800"/>
            <a:ext cx="75438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expired state, all remaining unobliga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unliquidated balances will be cance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priation will no longer be available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bligation and/or disbur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ollections received will be deposited into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iscellaneous receipt account (21R3210.0001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bligations and adjustments will be charg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o current appropri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52800" y="514080"/>
            <a:ext cx="49528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s of an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352680"/>
            <a:ext cx="67816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1998 - 30 Sep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1999 - 30 Sep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2004 - Indefinitel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90512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sury Symbol -  219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95440" y="514440"/>
            <a:ext cx="2647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1905120"/>
            <a:ext cx="7162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is an authorization, by 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ct of congress, to make payments out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reasury for specified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ic symbol identifies the type of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r major purpose of the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d by the Treasury Departmen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0360" y="514440"/>
            <a:ext cx="2038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2171880"/>
            <a:ext cx="7162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mitation is a four-digit suffix to the bas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uffix is used to identify a subdivision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unds that restricts the amount or us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unds for a certain purpose or identifies sub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lements within the account for manage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4613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9047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9200" y="2286000"/>
            <a:ext cx="6218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Elements of the Fiscal Code and the States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DFAS-IN Manual 37-100-FY Extract and Examples of Accounting Class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 accounting classific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each of its parts with no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0% erro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5200" y="3808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Agency - Allotmen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rial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 - 3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3560" y="2279520"/>
            <a:ext cx="7941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ting Agency Code (57) TRA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dentif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Operating Agency that issued the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llotment or allowance of funds to the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tment Serial Number (310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control numb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ssigned by the Operating Agency for each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llotment of funds which it issues to an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is is a locally developed number used to tr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unds and can not be found in published Ar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egul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y Management Structure Code (AMSCO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of Resource (E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6776.ZO-26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2200" y="2765520"/>
            <a:ext cx="7845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SCO is a data element not to exceed el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igits which identifies the purpose, mission,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anagement levels for various Army organiz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func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SCO is used for interrelating programming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budgeting, accounting, and manpower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SCO as a Projec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10.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5160" y="1600200"/>
            <a:ext cx="803124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Military Personnel Appropriations (MPA, RPA, NGPA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the AMSCO is referred to as the Project Code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MSCO consists of four digits, a decimal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and two or four more digi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wo digits identify the broad purpose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bjective of the expenditur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ext two digits identify the basic purpose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bjectiv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ther two or four digits after the decimal identif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a further subdivision of the basic pur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SCO as a Program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10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771560"/>
            <a:ext cx="779148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Element consists of six digits, a decimal, and two 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ree digits after the decima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three digits are known as the BAG, Budget Activity Group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digit is called the budget activity and represents the maj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rogra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cond digit is called the O-1 Line Level, and in combin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with the first digit, represents the sub-progra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digit is called the sub-activity, and together with the las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ree digits represent a more detailed description of the purpose 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missio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gits that follow the decimal represent a further subdivision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he purpose or 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of Resource (EOR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0040" y="1733400"/>
            <a:ext cx="80254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lement of Resource (EOR) is a code used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lassifying the type of service, good, or other ite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being procured or consumed according to its nat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ather than its purpos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OR immediately follows the AMSCO but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eparated by a da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two digits are normally called the obj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two digits further describe the particul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Decision Packag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DEP) Q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035080"/>
            <a:ext cx="8229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DEP is a four digit code which describes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particular organization, program, or function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erms of resources and intended outpu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DEP provides the US Army with in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oncerning the dollars tied to wartime and peaceti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management across appropriation lin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ix management areas of MD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335600" y="457200"/>
            <a:ext cx="6526800" cy="4356720"/>
            <a:chOff x="1335600" y="457200"/>
            <a:chExt cx="6526800" cy="4356720"/>
          </a:xfrm>
        </p:grpSpPr>
        <p:sp>
          <p:nvSpPr>
            <p:cNvPr id="391" name="PlaceHolder 1"/>
            <p:cNvSpPr>
              <a:spLocks noGrp="1"/>
            </p:cNvSpPr>
            <p:nvPr>
              <p:ph type="title"/>
            </p:nvPr>
          </p:nvSpPr>
          <p:spPr>
            <a:xfrm>
              <a:off x="2081160" y="457200"/>
              <a:ext cx="495288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ctional Cost Account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 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5600" y="2530440"/>
              <a:ext cx="652680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other means for Management to tr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ditur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ilar to an Element of Resource (EOR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rrently applies to ten catego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11120" y="380520"/>
            <a:ext cx="464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Component or Count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4040" y="1730520"/>
            <a:ext cx="76093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codes identify the country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location in which a financial transaction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these types of trans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Balance of Payments (IBO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 Military Sales (F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Military Education and Trai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IM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 Military Financing (FMF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95560" y="5257800"/>
          <a:ext cx="4800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5257800"/>
                    <a:ext cx="4800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4680" y="41868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Cente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3200" y="2111400"/>
            <a:ext cx="7759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an integral part of a financial transaction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counted as a major part of the accoun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ification.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Center Codes are locally assigned, therefor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found in Army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further discuss Cost Center Codes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ruction on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04680" y="41868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Ord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4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52120" y="2111400"/>
            <a:ext cx="7880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an integral part of a financial transaction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counted as a major part of the accoun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ification.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Order Numbers are locally assigned, therefor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found in Army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further discuss Cost Center Codes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ruction on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Cod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75160" y="2514600"/>
            <a:ext cx="5111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ystem designed to describe federal government financial transactions through the use of a a series of alpha and numeric symbols commonly known as an accounting class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04800" y="2290680"/>
            <a:ext cx="2822760" cy="2806920"/>
            <a:chOff x="604800" y="2290680"/>
            <a:chExt cx="2822760" cy="2806920"/>
          </a:xfrm>
        </p:grpSpPr>
        <p:sp>
          <p:nvSpPr>
            <p:cNvPr id="271" name=""/>
            <p:cNvSpPr/>
            <p:nvPr/>
          </p:nvSpPr>
          <p:spPr>
            <a:xfrm>
              <a:off x="639720" y="2290680"/>
              <a:ext cx="2787840" cy="2806920"/>
            </a:xfrm>
            <a:custGeom>
              <a:avLst/>
              <a:gdLst/>
              <a:ahLst/>
              <a:rect l="l" t="t" r="r" b="b"/>
              <a:pathLst>
                <a:path w="3514" h="1768">
                  <a:moveTo>
                    <a:pt x="0" y="624"/>
                  </a:moveTo>
                  <a:lnTo>
                    <a:pt x="1912" y="0"/>
                  </a:lnTo>
                  <a:lnTo>
                    <a:pt x="1917" y="8"/>
                  </a:lnTo>
                  <a:lnTo>
                    <a:pt x="1957" y="26"/>
                  </a:lnTo>
                  <a:lnTo>
                    <a:pt x="1993" y="25"/>
                  </a:lnTo>
                  <a:lnTo>
                    <a:pt x="3514" y="473"/>
                  </a:lnTo>
                  <a:lnTo>
                    <a:pt x="3514" y="492"/>
                  </a:lnTo>
                  <a:lnTo>
                    <a:pt x="3424" y="531"/>
                  </a:lnTo>
                  <a:lnTo>
                    <a:pt x="3422" y="543"/>
                  </a:lnTo>
                  <a:lnTo>
                    <a:pt x="3416" y="576"/>
                  </a:lnTo>
                  <a:lnTo>
                    <a:pt x="3412" y="610"/>
                  </a:lnTo>
                  <a:lnTo>
                    <a:pt x="3406" y="649"/>
                  </a:lnTo>
                  <a:lnTo>
                    <a:pt x="3401" y="687"/>
                  </a:lnTo>
                  <a:lnTo>
                    <a:pt x="3400" y="715"/>
                  </a:lnTo>
                  <a:lnTo>
                    <a:pt x="3398" y="740"/>
                  </a:lnTo>
                  <a:lnTo>
                    <a:pt x="3396" y="761"/>
                  </a:lnTo>
                  <a:lnTo>
                    <a:pt x="3395" y="778"/>
                  </a:lnTo>
                  <a:lnTo>
                    <a:pt x="3395" y="793"/>
                  </a:lnTo>
                  <a:lnTo>
                    <a:pt x="3395" y="815"/>
                  </a:lnTo>
                  <a:lnTo>
                    <a:pt x="3395" y="835"/>
                  </a:lnTo>
                  <a:lnTo>
                    <a:pt x="3400" y="858"/>
                  </a:lnTo>
                  <a:lnTo>
                    <a:pt x="3496" y="883"/>
                  </a:lnTo>
                  <a:lnTo>
                    <a:pt x="3496" y="897"/>
                  </a:lnTo>
                  <a:lnTo>
                    <a:pt x="1626" y="1768"/>
                  </a:lnTo>
                  <a:lnTo>
                    <a:pt x="85" y="1119"/>
                  </a:lnTo>
                  <a:lnTo>
                    <a:pt x="48" y="1094"/>
                  </a:lnTo>
                  <a:lnTo>
                    <a:pt x="0" y="1096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4800" y="3281400"/>
              <a:ext cx="76320" cy="749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77880" y="3000240"/>
            <a:ext cx="2736720" cy="2068560"/>
          </a:xfrm>
          <a:custGeom>
            <a:avLst/>
            <a:gdLst/>
            <a:ahLst/>
            <a:rect l="l" t="t" r="r" b="b"/>
            <a:pathLst>
              <a:path w="3448" h="1303">
                <a:moveTo>
                  <a:pt x="0" y="641"/>
                </a:moveTo>
                <a:lnTo>
                  <a:pt x="53" y="596"/>
                </a:lnTo>
                <a:lnTo>
                  <a:pt x="1660" y="0"/>
                </a:lnTo>
                <a:lnTo>
                  <a:pt x="3448" y="436"/>
                </a:lnTo>
                <a:lnTo>
                  <a:pt x="1581" y="1303"/>
                </a:lnTo>
                <a:lnTo>
                  <a:pt x="0" y="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92160" y="3116160"/>
            <a:ext cx="1468440" cy="1914480"/>
            <a:chOff x="1892160" y="3116160"/>
            <a:chExt cx="1468440" cy="1914480"/>
          </a:xfrm>
        </p:grpSpPr>
        <p:sp>
          <p:nvSpPr>
            <p:cNvPr id="275" name=""/>
            <p:cNvSpPr/>
            <p:nvPr/>
          </p:nvSpPr>
          <p:spPr>
            <a:xfrm>
              <a:off x="1911240" y="3116160"/>
              <a:ext cx="1449360" cy="1886040"/>
            </a:xfrm>
            <a:custGeom>
              <a:avLst/>
              <a:gdLst/>
              <a:ahLst/>
              <a:rect l="l" t="t" r="r" b="b"/>
              <a:pathLst>
                <a:path w="1826" h="1188">
                  <a:moveTo>
                    <a:pt x="0" y="789"/>
                  </a:moveTo>
                  <a:lnTo>
                    <a:pt x="18" y="1188"/>
                  </a:lnTo>
                  <a:lnTo>
                    <a:pt x="1798" y="357"/>
                  </a:lnTo>
                  <a:lnTo>
                    <a:pt x="1792" y="295"/>
                  </a:lnTo>
                  <a:lnTo>
                    <a:pt x="1793" y="258"/>
                  </a:lnTo>
                  <a:lnTo>
                    <a:pt x="1795" y="220"/>
                  </a:lnTo>
                  <a:lnTo>
                    <a:pt x="1797" y="186"/>
                  </a:lnTo>
                  <a:lnTo>
                    <a:pt x="1801" y="139"/>
                  </a:lnTo>
                  <a:lnTo>
                    <a:pt x="1806" y="97"/>
                  </a:lnTo>
                  <a:lnTo>
                    <a:pt x="1811" y="66"/>
                  </a:lnTo>
                  <a:lnTo>
                    <a:pt x="1817" y="25"/>
                  </a:lnTo>
                  <a:lnTo>
                    <a:pt x="1826" y="0"/>
                  </a:lnTo>
                  <a:lnTo>
                    <a:pt x="0" y="7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92160" y="4328640"/>
              <a:ext cx="10188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11" y="20914"/>
                  </a:moveTo>
                  <a:arcTo wR="10800" hR="10800" stAng="6632260" swAng="7779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7011" y="20914"/>
                  </a:moveTo>
                  <a:arcTo wR="10800" hR="10800" stAng="6632260" swAng="7779692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05120" y="3121200"/>
            <a:ext cx="1454040" cy="1698480"/>
          </a:xfrm>
          <a:custGeom>
            <a:avLst/>
            <a:gdLst/>
            <a:ahLst/>
            <a:rect l="l" t="t" r="r" b="b"/>
            <a:pathLst>
              <a:path w="1832" h="1070">
                <a:moveTo>
                  <a:pt x="11" y="785"/>
                </a:moveTo>
                <a:lnTo>
                  <a:pt x="0" y="827"/>
                </a:lnTo>
                <a:lnTo>
                  <a:pt x="76" y="875"/>
                </a:lnTo>
                <a:lnTo>
                  <a:pt x="42" y="898"/>
                </a:lnTo>
                <a:lnTo>
                  <a:pt x="85" y="882"/>
                </a:lnTo>
                <a:lnTo>
                  <a:pt x="164" y="931"/>
                </a:lnTo>
                <a:lnTo>
                  <a:pt x="39" y="985"/>
                </a:lnTo>
                <a:lnTo>
                  <a:pt x="174" y="942"/>
                </a:lnTo>
                <a:lnTo>
                  <a:pt x="272" y="1008"/>
                </a:lnTo>
                <a:lnTo>
                  <a:pt x="301" y="1024"/>
                </a:lnTo>
                <a:lnTo>
                  <a:pt x="213" y="1070"/>
                </a:lnTo>
                <a:lnTo>
                  <a:pt x="311" y="1032"/>
                </a:lnTo>
                <a:lnTo>
                  <a:pt x="333" y="1047"/>
                </a:lnTo>
                <a:lnTo>
                  <a:pt x="1814" y="358"/>
                </a:lnTo>
                <a:lnTo>
                  <a:pt x="1808" y="351"/>
                </a:lnTo>
                <a:lnTo>
                  <a:pt x="1801" y="325"/>
                </a:lnTo>
                <a:lnTo>
                  <a:pt x="1800" y="297"/>
                </a:lnTo>
                <a:lnTo>
                  <a:pt x="1801" y="255"/>
                </a:lnTo>
                <a:lnTo>
                  <a:pt x="1808" y="151"/>
                </a:lnTo>
                <a:lnTo>
                  <a:pt x="1813" y="109"/>
                </a:lnTo>
                <a:lnTo>
                  <a:pt x="1819" y="67"/>
                </a:lnTo>
                <a:lnTo>
                  <a:pt x="1825" y="27"/>
                </a:lnTo>
                <a:lnTo>
                  <a:pt x="1832" y="0"/>
                </a:lnTo>
                <a:lnTo>
                  <a:pt x="11" y="785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1800" y="3313080"/>
            <a:ext cx="1295280" cy="1698480"/>
          </a:xfrm>
          <a:custGeom>
            <a:avLst/>
            <a:gdLst/>
            <a:ahLst/>
            <a:rect l="l" t="t" r="r" b="b"/>
            <a:pathLst>
              <a:path w="1633" h="1070">
                <a:moveTo>
                  <a:pt x="26" y="0"/>
                </a:moveTo>
                <a:lnTo>
                  <a:pt x="60" y="28"/>
                </a:lnTo>
                <a:lnTo>
                  <a:pt x="84" y="31"/>
                </a:lnTo>
                <a:lnTo>
                  <a:pt x="1616" y="668"/>
                </a:lnTo>
                <a:lnTo>
                  <a:pt x="1605" y="710"/>
                </a:lnTo>
                <a:lnTo>
                  <a:pt x="1599" y="763"/>
                </a:lnTo>
                <a:lnTo>
                  <a:pt x="1594" y="848"/>
                </a:lnTo>
                <a:lnTo>
                  <a:pt x="1597" y="923"/>
                </a:lnTo>
                <a:lnTo>
                  <a:pt x="1608" y="992"/>
                </a:lnTo>
                <a:lnTo>
                  <a:pt x="1624" y="1052"/>
                </a:lnTo>
                <a:lnTo>
                  <a:pt x="1633" y="1070"/>
                </a:lnTo>
                <a:lnTo>
                  <a:pt x="889" y="763"/>
                </a:lnTo>
                <a:lnTo>
                  <a:pt x="111" y="440"/>
                </a:lnTo>
                <a:lnTo>
                  <a:pt x="81" y="426"/>
                </a:lnTo>
                <a:lnTo>
                  <a:pt x="41" y="429"/>
                </a:lnTo>
                <a:lnTo>
                  <a:pt x="33" y="417"/>
                </a:lnTo>
                <a:lnTo>
                  <a:pt x="26" y="401"/>
                </a:lnTo>
                <a:lnTo>
                  <a:pt x="21" y="384"/>
                </a:lnTo>
                <a:lnTo>
                  <a:pt x="16" y="363"/>
                </a:lnTo>
                <a:lnTo>
                  <a:pt x="13" y="350"/>
                </a:lnTo>
                <a:lnTo>
                  <a:pt x="10" y="327"/>
                </a:lnTo>
                <a:lnTo>
                  <a:pt x="7" y="305"/>
                </a:lnTo>
                <a:lnTo>
                  <a:pt x="5" y="278"/>
                </a:lnTo>
                <a:lnTo>
                  <a:pt x="4" y="258"/>
                </a:lnTo>
                <a:lnTo>
                  <a:pt x="2" y="231"/>
                </a:lnTo>
                <a:lnTo>
                  <a:pt x="0" y="212"/>
                </a:lnTo>
                <a:lnTo>
                  <a:pt x="0" y="194"/>
                </a:lnTo>
                <a:lnTo>
                  <a:pt x="0" y="169"/>
                </a:lnTo>
                <a:lnTo>
                  <a:pt x="0" y="149"/>
                </a:lnTo>
                <a:lnTo>
                  <a:pt x="2" y="132"/>
                </a:lnTo>
                <a:lnTo>
                  <a:pt x="4" y="112"/>
                </a:lnTo>
                <a:lnTo>
                  <a:pt x="5" y="94"/>
                </a:lnTo>
                <a:lnTo>
                  <a:pt x="8" y="71"/>
                </a:lnTo>
                <a:lnTo>
                  <a:pt x="12" y="55"/>
                </a:lnTo>
                <a:lnTo>
                  <a:pt x="16" y="35"/>
                </a:lnTo>
                <a:lnTo>
                  <a:pt x="21" y="16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77880" y="3355920"/>
            <a:ext cx="1235160" cy="1571760"/>
            <a:chOff x="677880" y="3355920"/>
            <a:chExt cx="1235160" cy="1571760"/>
          </a:xfrm>
        </p:grpSpPr>
        <p:sp>
          <p:nvSpPr>
            <p:cNvPr id="280" name=""/>
            <p:cNvSpPr/>
            <p:nvPr/>
          </p:nvSpPr>
          <p:spPr>
            <a:xfrm>
              <a:off x="677880" y="3355920"/>
              <a:ext cx="1235160" cy="1081080"/>
            </a:xfrm>
            <a:custGeom>
              <a:avLst/>
              <a:gdLst/>
              <a:ahLst/>
              <a:rect l="l" t="t" r="r" b="b"/>
              <a:pathLst>
                <a:path w="1557" h="681">
                  <a:moveTo>
                    <a:pt x="12" y="9"/>
                  </a:moveTo>
                  <a:lnTo>
                    <a:pt x="0" y="0"/>
                  </a:lnTo>
                  <a:lnTo>
                    <a:pt x="28" y="5"/>
                  </a:lnTo>
                  <a:lnTo>
                    <a:pt x="1557" y="640"/>
                  </a:lnTo>
                  <a:lnTo>
                    <a:pt x="1546" y="681"/>
                  </a:lnTo>
                  <a:lnTo>
                    <a:pt x="1220" y="536"/>
                  </a:lnTo>
                  <a:lnTo>
                    <a:pt x="926" y="407"/>
                  </a:lnTo>
                  <a:lnTo>
                    <a:pt x="644" y="286"/>
                  </a:lnTo>
                  <a:lnTo>
                    <a:pt x="403" y="17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74640" y="4218120"/>
              <a:ext cx="320760" cy="260280"/>
            </a:xfrm>
            <a:custGeom>
              <a:avLst/>
              <a:gdLst/>
              <a:ahLst/>
              <a:rect l="l" t="t" r="r" b="b"/>
              <a:pathLst>
                <a:path w="406" h="164">
                  <a:moveTo>
                    <a:pt x="0" y="0"/>
                  </a:moveTo>
                  <a:lnTo>
                    <a:pt x="185" y="68"/>
                  </a:lnTo>
                  <a:lnTo>
                    <a:pt x="238" y="89"/>
                  </a:lnTo>
                  <a:lnTo>
                    <a:pt x="292" y="114"/>
                  </a:lnTo>
                  <a:lnTo>
                    <a:pt x="406" y="164"/>
                  </a:lnTo>
                  <a:lnTo>
                    <a:pt x="263" y="106"/>
                  </a:lnTo>
                  <a:lnTo>
                    <a:pt x="164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06400" y="4483080"/>
              <a:ext cx="189000" cy="150840"/>
            </a:xfrm>
            <a:custGeom>
              <a:avLst/>
              <a:gdLst/>
              <a:ahLst/>
              <a:rect l="l" t="t" r="r" b="b"/>
              <a:pathLst>
                <a:path w="238" h="95">
                  <a:moveTo>
                    <a:pt x="0" y="0"/>
                  </a:moveTo>
                  <a:lnTo>
                    <a:pt x="111" y="37"/>
                  </a:lnTo>
                  <a:lnTo>
                    <a:pt x="158" y="56"/>
                  </a:lnTo>
                  <a:lnTo>
                    <a:pt x="238" y="90"/>
                  </a:lnTo>
                  <a:lnTo>
                    <a:pt x="238" y="95"/>
                  </a:lnTo>
                  <a:lnTo>
                    <a:pt x="13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9760" y="4390920"/>
              <a:ext cx="490320" cy="417600"/>
            </a:xfrm>
            <a:custGeom>
              <a:avLst/>
              <a:gdLst/>
              <a:ahLst/>
              <a:rect l="l" t="t" r="r" b="b"/>
              <a:pathLst>
                <a:path w="618" h="263">
                  <a:moveTo>
                    <a:pt x="0" y="0"/>
                  </a:moveTo>
                  <a:lnTo>
                    <a:pt x="309" y="126"/>
                  </a:lnTo>
                  <a:lnTo>
                    <a:pt x="479" y="195"/>
                  </a:lnTo>
                  <a:lnTo>
                    <a:pt x="615" y="251"/>
                  </a:lnTo>
                  <a:lnTo>
                    <a:pt x="618" y="263"/>
                  </a:lnTo>
                  <a:lnTo>
                    <a:pt x="354" y="148"/>
                  </a:lnTo>
                  <a:lnTo>
                    <a:pt x="12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35200" y="4552920"/>
              <a:ext cx="160200" cy="135000"/>
            </a:xfrm>
            <a:custGeom>
              <a:avLst/>
              <a:gdLst/>
              <a:ahLst/>
              <a:rect l="l" t="t" r="r" b="b"/>
              <a:pathLst>
                <a:path w="201" h="85">
                  <a:moveTo>
                    <a:pt x="0" y="0"/>
                  </a:moveTo>
                  <a:lnTo>
                    <a:pt x="201" y="74"/>
                  </a:lnTo>
                  <a:lnTo>
                    <a:pt x="201" y="85"/>
                  </a:lnTo>
                  <a:lnTo>
                    <a:pt x="12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7800" y="4778280"/>
              <a:ext cx="163440" cy="149400"/>
            </a:xfrm>
            <a:custGeom>
              <a:avLst/>
              <a:gdLst/>
              <a:ahLst/>
              <a:rect l="l" t="t" r="r" b="b"/>
              <a:pathLst>
                <a:path w="206" h="94">
                  <a:moveTo>
                    <a:pt x="0" y="0"/>
                  </a:moveTo>
                  <a:lnTo>
                    <a:pt x="163" y="68"/>
                  </a:lnTo>
                  <a:lnTo>
                    <a:pt x="205" y="88"/>
                  </a:lnTo>
                  <a:lnTo>
                    <a:pt x="206" y="94"/>
                  </a:lnTo>
                  <a:lnTo>
                    <a:pt x="148" y="69"/>
                  </a:lnTo>
                  <a:lnTo>
                    <a:pt x="3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87560" y="3137040"/>
            <a:ext cx="1347120" cy="1824480"/>
            <a:chOff x="1987560" y="3137040"/>
            <a:chExt cx="1347120" cy="1824480"/>
          </a:xfrm>
        </p:grpSpPr>
        <p:grpSp>
          <p:nvGrpSpPr>
            <p:cNvPr id="287" name=""/>
            <p:cNvGrpSpPr/>
            <p:nvPr/>
          </p:nvGrpSpPr>
          <p:grpSpPr>
            <a:xfrm>
              <a:off x="2838600" y="3591000"/>
              <a:ext cx="138240" cy="299160"/>
              <a:chOff x="2838600" y="3591000"/>
              <a:chExt cx="138240" cy="299160"/>
            </a:xfrm>
          </p:grpSpPr>
          <p:sp>
            <p:nvSpPr>
              <p:cNvPr id="288" name=""/>
              <p:cNvSpPr/>
              <p:nvPr/>
            </p:nvSpPr>
            <p:spPr>
              <a:xfrm>
                <a:off x="2838600" y="3591000"/>
                <a:ext cx="1296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9" y="14404"/>
                    </a:moveTo>
                    <a:arcTo wR="10800" hR="10800" stAng="9630544" swAng="104617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9" y="14404"/>
                    </a:moveTo>
                    <a:arcTo wR="10800" hR="10800" stAng="9630544" swAng="10461747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38600" y="3643200"/>
                <a:ext cx="138240" cy="18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7" y="17196"/>
                    </a:moveTo>
                    <a:arcTo wR="10800" hR="10800" stAng="8621255" swAng="103073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7" y="17196"/>
                    </a:moveTo>
                    <a:arcTo wR="10800" hR="10800" stAng="8621255" swAng="1030738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4760" y="3746520"/>
              <a:ext cx="139680" cy="299880"/>
              <a:chOff x="2714760" y="3746520"/>
              <a:chExt cx="139680" cy="299880"/>
            </a:xfrm>
          </p:grpSpPr>
          <p:sp>
            <p:nvSpPr>
              <p:cNvPr id="291" name=""/>
              <p:cNvSpPr/>
              <p:nvPr/>
            </p:nvSpPr>
            <p:spPr>
              <a:xfrm>
                <a:off x="2716200" y="3746520"/>
                <a:ext cx="129600" cy="2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0" y="14490"/>
                    </a:moveTo>
                    <a:arcTo wR="10800" hR="10800" stAng="9601408" swAng="104543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0" y="14490"/>
                    </a:moveTo>
                    <a:arcTo wR="10800" hR="10800" stAng="9601408" swAng="1045435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14760" y="3800520"/>
                <a:ext cx="13968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51" y="17399"/>
                    </a:moveTo>
                    <a:arcTo wR="10800" hR="10800" stAng="8540063" swAng="105175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51" y="17399"/>
                    </a:moveTo>
                    <a:arcTo wR="10800" hR="10800" stAng="8540063" swAng="10517521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592360" y="3894120"/>
              <a:ext cx="138240" cy="299520"/>
              <a:chOff x="2592360" y="3894120"/>
              <a:chExt cx="138240" cy="29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2593800" y="3894120"/>
                <a:ext cx="129960" cy="29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9" y="14404"/>
                    </a:moveTo>
                    <a:arcTo wR="10800" hR="10800" stAng="9630544" swAng="10387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9" y="14404"/>
                    </a:moveTo>
                    <a:arcTo wR="10800" hR="10800" stAng="9630544" swAng="10387006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92360" y="3946680"/>
                <a:ext cx="138240" cy="18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" y="17276"/>
                    </a:moveTo>
                    <a:arcTo wR="10800" hR="10800" stAng="8589510" swAng="104598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" y="17276"/>
                    </a:moveTo>
                    <a:arcTo wR="10800" hR="10800" stAng="8589510" swAng="10459863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468520" y="4040280"/>
              <a:ext cx="150120" cy="300240"/>
              <a:chOff x="2468520" y="4040280"/>
              <a:chExt cx="150120" cy="300240"/>
            </a:xfrm>
          </p:grpSpPr>
          <p:sp>
            <p:nvSpPr>
              <p:cNvPr id="297" name=""/>
              <p:cNvSpPr/>
              <p:nvPr/>
            </p:nvSpPr>
            <p:spPr>
              <a:xfrm>
                <a:off x="2470320" y="4040280"/>
                <a:ext cx="139320" cy="30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" y="14472"/>
                    </a:moveTo>
                    <a:arcTo wR="10800" hR="10800" stAng="9607538" swAng="104679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" y="14472"/>
                    </a:moveTo>
                    <a:arcTo wR="10800" hR="10800" stAng="9607538" swAng="10467904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68520" y="4094280"/>
                <a:ext cx="150120" cy="17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1" y="17132"/>
                    </a:moveTo>
                    <a:arcTo wR="10800" hR="10800" stAng="8646440" swAng="10375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1" y="17132"/>
                    </a:moveTo>
                    <a:arcTo wR="10800" hR="10800" stAng="8646440" swAng="10375662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352600" y="4194000"/>
              <a:ext cx="150480" cy="302760"/>
              <a:chOff x="2352600" y="4194000"/>
              <a:chExt cx="150480" cy="302760"/>
            </a:xfrm>
          </p:grpSpPr>
          <p:sp>
            <p:nvSpPr>
              <p:cNvPr id="300" name=""/>
              <p:cNvSpPr/>
              <p:nvPr/>
            </p:nvSpPr>
            <p:spPr>
              <a:xfrm>
                <a:off x="2354400" y="4194000"/>
                <a:ext cx="139680" cy="30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14250"/>
                    </a:moveTo>
                    <a:arcTo wR="10800" hR="10800" stAng="9682195" swAng="10367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14250"/>
                    </a:moveTo>
                    <a:arcTo wR="10800" hR="10800" stAng="9682195" swAng="1036718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52600" y="4248000"/>
                <a:ext cx="150480" cy="18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4" y="16967"/>
                    </a:moveTo>
                    <a:arcTo wR="10800" hR="10800" stAng="8710530" swAng="10281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4" y="16967"/>
                    </a:moveTo>
                    <a:arcTo wR="10800" hR="10800" stAng="8710530" swAng="10281994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228760" y="4340160"/>
              <a:ext cx="157680" cy="318960"/>
              <a:chOff x="2228760" y="4340160"/>
              <a:chExt cx="157680" cy="318960"/>
            </a:xfrm>
          </p:grpSpPr>
          <p:sp>
            <p:nvSpPr>
              <p:cNvPr id="303" name=""/>
              <p:cNvSpPr/>
              <p:nvPr/>
            </p:nvSpPr>
            <p:spPr>
              <a:xfrm>
                <a:off x="2230560" y="4340160"/>
                <a:ext cx="144360" cy="31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0" y="14379"/>
                    </a:moveTo>
                    <a:arcTo wR="10800" hR="10800" stAng="9638719" swAng="10421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0" y="14379"/>
                    </a:moveTo>
                    <a:arcTo wR="10800" hR="10800" stAng="9638719" swAng="1042115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28760" y="4394160"/>
                <a:ext cx="157680" cy="197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6" y="16985"/>
                    </a:moveTo>
                    <a:arcTo wR="10800" hR="10800" stAng="8703737" swAng="104016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6" y="16985"/>
                    </a:moveTo>
                    <a:arcTo wR="10800" hR="10800" stAng="8703737" swAng="10401695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111400" y="4486320"/>
              <a:ext cx="151560" cy="339840"/>
              <a:chOff x="2111400" y="4486320"/>
              <a:chExt cx="151560" cy="339840"/>
            </a:xfrm>
          </p:grpSpPr>
          <p:sp>
            <p:nvSpPr>
              <p:cNvPr id="306" name=""/>
              <p:cNvSpPr/>
              <p:nvPr/>
            </p:nvSpPr>
            <p:spPr>
              <a:xfrm>
                <a:off x="2111400" y="4486320"/>
                <a:ext cx="143640" cy="33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14392"/>
                    </a:moveTo>
                    <a:arcTo wR="10800" hR="10800" stAng="9634295" swAng="103739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14392"/>
                    </a:moveTo>
                    <a:arcTo wR="10800" hR="10800" stAng="9634295" swAng="1037393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11400" y="4546440"/>
                <a:ext cx="151560" cy="2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1" y="17105"/>
                    </a:moveTo>
                    <a:arcTo wR="10800" hR="10800" stAng="8656967" swAng="10370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1" y="17105"/>
                    </a:moveTo>
                    <a:arcTo wR="10800" hR="10800" stAng="8656967" swAng="10370704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87560" y="4635360"/>
              <a:ext cx="150840" cy="326160"/>
              <a:chOff x="1987560" y="4635360"/>
              <a:chExt cx="150840" cy="326160"/>
            </a:xfrm>
          </p:grpSpPr>
          <p:sp>
            <p:nvSpPr>
              <p:cNvPr id="309" name=""/>
              <p:cNvSpPr/>
              <p:nvPr/>
            </p:nvSpPr>
            <p:spPr>
              <a:xfrm>
                <a:off x="1989000" y="4635360"/>
                <a:ext cx="14004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8" y="14287"/>
                    </a:moveTo>
                    <a:arcTo wR="10800" hR="10800" stAng="9669883" swAng="103643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8" y="14287"/>
                    </a:moveTo>
                    <a:arcTo wR="10800" hR="10800" stAng="9669883" swAng="1036436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7560" y="4694400"/>
                <a:ext cx="150840" cy="19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3" y="17051"/>
                    </a:moveTo>
                    <a:arcTo wR="10800" hR="10800" stAng="8678123" swAng="10302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3" y="17051"/>
                    </a:moveTo>
                    <a:arcTo wR="10800" hR="10800" stAng="8678123" swAng="10302632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55960" y="3443400"/>
              <a:ext cx="137160" cy="302040"/>
              <a:chOff x="2955960" y="3443400"/>
              <a:chExt cx="137160" cy="302040"/>
            </a:xfrm>
          </p:grpSpPr>
          <p:sp>
            <p:nvSpPr>
              <p:cNvPr id="312" name=""/>
              <p:cNvSpPr/>
              <p:nvPr/>
            </p:nvSpPr>
            <p:spPr>
              <a:xfrm>
                <a:off x="2957400" y="3443400"/>
                <a:ext cx="129600" cy="30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3" y="14387"/>
                    </a:moveTo>
                    <a:arcTo wR="10800" hR="10800" stAng="9636238" swAng="10426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3" y="14387"/>
                    </a:moveTo>
                    <a:arcTo wR="10800" hR="10800" stAng="9636238" swAng="10426609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55960" y="3497400"/>
                <a:ext cx="13716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1" y="17228"/>
                    </a:moveTo>
                    <a:arcTo wR="10800" hR="10800" stAng="8608332" swAng="10416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1" y="17228"/>
                    </a:moveTo>
                    <a:arcTo wR="10800" hR="10800" stAng="8608332" swAng="10416117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75120" y="3289320"/>
              <a:ext cx="137880" cy="300960"/>
              <a:chOff x="3075120" y="3289320"/>
              <a:chExt cx="137880" cy="300960"/>
            </a:xfrm>
          </p:grpSpPr>
          <p:sp>
            <p:nvSpPr>
              <p:cNvPr id="315" name=""/>
              <p:cNvSpPr/>
              <p:nvPr/>
            </p:nvSpPr>
            <p:spPr>
              <a:xfrm>
                <a:off x="3076560" y="3289320"/>
                <a:ext cx="128160" cy="30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5" y="14449"/>
                    </a:moveTo>
                    <a:arcTo wR="10800" hR="10800" stAng="9615103" swAng="104641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5" y="14449"/>
                    </a:moveTo>
                    <a:arcTo wR="10800" hR="10800" stAng="9615103" swAng="10464126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75120" y="3343320"/>
                <a:ext cx="1378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1" y="17228"/>
                    </a:moveTo>
                    <a:arcTo wR="10800" hR="10800" stAng="8608332" swAng="104606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1" y="17228"/>
                    </a:moveTo>
                    <a:arcTo wR="10800" hR="10800" stAng="8608332" swAng="10460601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198960" y="3137040"/>
              <a:ext cx="135720" cy="299880"/>
              <a:chOff x="3198960" y="3137040"/>
              <a:chExt cx="135720" cy="29988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8960" y="3137040"/>
                <a:ext cx="129600" cy="2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0" y="14490"/>
                    </a:moveTo>
                    <a:arcTo wR="10800" hR="10800" stAng="9601408" swAng="104543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0" y="14490"/>
                    </a:moveTo>
                    <a:arcTo wR="10800" hR="10800" stAng="9601408" swAng="1045435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98960" y="3189240"/>
                <a:ext cx="13572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86" y="17180"/>
                    </a:moveTo>
                    <a:arcTo wR="10800" hR="10800" stAng="8627309" swAng="104613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86" y="17180"/>
                    </a:moveTo>
                    <a:arcTo wR="10800" hR="10800" stAng="8627309" swAng="10461389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1928880" y="3044880"/>
            <a:ext cx="1496880" cy="1341360"/>
          </a:xfrm>
          <a:custGeom>
            <a:avLst/>
            <a:gdLst/>
            <a:ahLst/>
            <a:rect l="l" t="t" r="r" b="b"/>
            <a:pathLst>
              <a:path w="1885" h="845">
                <a:moveTo>
                  <a:pt x="0" y="826"/>
                </a:moveTo>
                <a:lnTo>
                  <a:pt x="0" y="845"/>
                </a:lnTo>
                <a:lnTo>
                  <a:pt x="1885" y="19"/>
                </a:lnTo>
                <a:lnTo>
                  <a:pt x="1885" y="0"/>
                </a:lnTo>
                <a:lnTo>
                  <a:pt x="0" y="8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0200" y="2327400"/>
            <a:ext cx="2727360" cy="2027160"/>
          </a:xfrm>
          <a:custGeom>
            <a:avLst/>
            <a:gdLst/>
            <a:ahLst/>
            <a:rect l="l" t="t" r="r" b="b"/>
            <a:pathLst>
              <a:path w="3437" h="1277">
                <a:moveTo>
                  <a:pt x="0" y="633"/>
                </a:moveTo>
                <a:lnTo>
                  <a:pt x="1911" y="0"/>
                </a:lnTo>
                <a:lnTo>
                  <a:pt x="3437" y="450"/>
                </a:lnTo>
                <a:lnTo>
                  <a:pt x="1550" y="1277"/>
                </a:lnTo>
                <a:lnTo>
                  <a:pt x="0" y="63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3279600"/>
            <a:ext cx="1293840" cy="1106640"/>
          </a:xfrm>
          <a:custGeom>
            <a:avLst/>
            <a:gdLst/>
            <a:ahLst/>
            <a:rect l="l" t="t" r="r" b="b"/>
            <a:pathLst>
              <a:path w="1631" h="697">
                <a:moveTo>
                  <a:pt x="53" y="48"/>
                </a:moveTo>
                <a:lnTo>
                  <a:pt x="0" y="4"/>
                </a:lnTo>
                <a:lnTo>
                  <a:pt x="7" y="0"/>
                </a:lnTo>
                <a:lnTo>
                  <a:pt x="55" y="39"/>
                </a:lnTo>
                <a:lnTo>
                  <a:pt x="82" y="35"/>
                </a:lnTo>
                <a:lnTo>
                  <a:pt x="1631" y="678"/>
                </a:lnTo>
                <a:lnTo>
                  <a:pt x="1631" y="697"/>
                </a:lnTo>
                <a:lnTo>
                  <a:pt x="76" y="51"/>
                </a:lnTo>
                <a:lnTo>
                  <a:pt x="53" y="4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28880" y="3697200"/>
            <a:ext cx="1485720" cy="1408320"/>
          </a:xfrm>
          <a:custGeom>
            <a:avLst/>
            <a:gdLst/>
            <a:ahLst/>
            <a:rect l="l" t="t" r="r" b="b"/>
            <a:pathLst>
              <a:path w="1870" h="887">
                <a:moveTo>
                  <a:pt x="1870" y="0"/>
                </a:moveTo>
                <a:lnTo>
                  <a:pt x="1870" y="12"/>
                </a:lnTo>
                <a:lnTo>
                  <a:pt x="0" y="887"/>
                </a:lnTo>
                <a:lnTo>
                  <a:pt x="0" y="867"/>
                </a:lnTo>
                <a:lnTo>
                  <a:pt x="187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1520" y="4017960"/>
            <a:ext cx="1287360" cy="1079640"/>
          </a:xfrm>
          <a:custGeom>
            <a:avLst/>
            <a:gdLst/>
            <a:ahLst/>
            <a:rect l="l" t="t" r="r" b="b"/>
            <a:pathLst>
              <a:path w="1623" h="680">
                <a:moveTo>
                  <a:pt x="44" y="0"/>
                </a:moveTo>
                <a:lnTo>
                  <a:pt x="0" y="1"/>
                </a:lnTo>
                <a:lnTo>
                  <a:pt x="2" y="9"/>
                </a:lnTo>
                <a:lnTo>
                  <a:pt x="47" y="8"/>
                </a:lnTo>
                <a:lnTo>
                  <a:pt x="76" y="29"/>
                </a:lnTo>
                <a:lnTo>
                  <a:pt x="1623" y="680"/>
                </a:lnTo>
                <a:lnTo>
                  <a:pt x="1623" y="662"/>
                </a:lnTo>
                <a:lnTo>
                  <a:pt x="44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49680" y="3279600"/>
            <a:ext cx="595080" cy="841680"/>
            <a:chOff x="2749680" y="3279600"/>
            <a:chExt cx="595080" cy="841680"/>
          </a:xfrm>
        </p:grpSpPr>
        <p:sp>
          <p:nvSpPr>
            <p:cNvPr id="326" name=""/>
            <p:cNvSpPr/>
            <p:nvPr/>
          </p:nvSpPr>
          <p:spPr>
            <a:xfrm>
              <a:off x="2749680" y="3571920"/>
              <a:ext cx="582480" cy="549360"/>
            </a:xfrm>
            <a:custGeom>
              <a:avLst/>
              <a:gdLst/>
              <a:ahLst/>
              <a:rect l="l" t="t" r="r" b="b"/>
              <a:pathLst>
                <a:path w="734" h="346">
                  <a:moveTo>
                    <a:pt x="734" y="0"/>
                  </a:moveTo>
                  <a:lnTo>
                    <a:pt x="0" y="346"/>
                  </a:lnTo>
                  <a:lnTo>
                    <a:pt x="734" y="6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0480" y="3629160"/>
              <a:ext cx="304920" cy="280800"/>
            </a:xfrm>
            <a:custGeom>
              <a:avLst/>
              <a:gdLst/>
              <a:ahLst/>
              <a:rect l="l" t="t" r="r" b="b"/>
              <a:pathLst>
                <a:path w="385" h="177">
                  <a:moveTo>
                    <a:pt x="0" y="177"/>
                  </a:moveTo>
                  <a:lnTo>
                    <a:pt x="383" y="0"/>
                  </a:lnTo>
                  <a:lnTo>
                    <a:pt x="385" y="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52800" y="3279600"/>
              <a:ext cx="291960" cy="260640"/>
            </a:xfrm>
            <a:custGeom>
              <a:avLst/>
              <a:gdLst/>
              <a:ahLst/>
              <a:rect l="l" t="t" r="r" b="b"/>
              <a:pathLst>
                <a:path w="368" h="164">
                  <a:moveTo>
                    <a:pt x="0" y="164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57360" y="2303640"/>
            <a:ext cx="1533240" cy="1028520"/>
          </a:xfrm>
          <a:custGeom>
            <a:avLst/>
            <a:gdLst/>
            <a:ahLst/>
            <a:rect l="l" t="t" r="r" b="b"/>
            <a:pathLst>
              <a:path w="1933" h="648">
                <a:moveTo>
                  <a:pt x="0" y="619"/>
                </a:moveTo>
                <a:lnTo>
                  <a:pt x="1894" y="0"/>
                </a:lnTo>
                <a:lnTo>
                  <a:pt x="1933" y="18"/>
                </a:lnTo>
                <a:lnTo>
                  <a:pt x="37" y="648"/>
                </a:lnTo>
                <a:lnTo>
                  <a:pt x="0" y="61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287800">
            <a:off x="2056320" y="2650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287800">
            <a:off x="1751400" y="2955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2287800">
            <a:off x="1200960" y="32004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74440" y="4568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ocument Number (Customer Number)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Processing Co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92740001/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640" y="2857680"/>
            <a:ext cx="7805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ocument Number (WORNAA92740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Number (1AR22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 Processing Code (A14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re locally assigned to th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74440" y="380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ocument Number (SDN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9274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1440" y="2133720"/>
            <a:ext cx="84034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DN or Customer Number, also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Reference Number (DRN), contain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14 characters but must have a minimum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DN or Customer Number is a lo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used to track a transaction from th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through the disbursement stag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AS-IN Regulation 37-1 lists the recom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s for SDNs in table 5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76520" y="5522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Processing Code (APC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3640" y="2057400"/>
            <a:ext cx="85010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-position code, locally-developed, and u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o abbreviate accounting classifications for STANF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 the data storage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data conversi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to the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lpha-num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243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Identification Code (UIC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0960" y="2133720"/>
            <a:ext cx="7799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IC is a six digit code which identifies the un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 individual is assigned to, or the unit the goo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re to be used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with a “W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MTOE or T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5583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Station Number (FSN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090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600200"/>
            <a:ext cx="7848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scal Station Number identifies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ccounting office responsible for maintaining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ccounting records of the allotment or allow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f fund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 Symbol -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, Continent, or Mobile Unit - 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Office - 076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fiscal station number is S99999, it is refer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o as a nominal fiscal station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1600200"/>
            <a:ext cx="7848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rmy Appropriations are used to sup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formance of the assigned mission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ase operations (BASOPS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Direct Arm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ppropriations are maintained by the receiv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an Payro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Duty travel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205740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Direct Army Appropria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the longest accounting classific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ther than 2010, 2060, or 2070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ther than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1752480"/>
            <a:ext cx="762012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pen Allotments are available to a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s for use in performing a particul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rmy-Wide miss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General Op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llotments are maintained by the issu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perating a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Permanent Change of Station (P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Pay and Allowan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98108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General Open Allotme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four part accounting classific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f 2010, 2020, 2060, or 207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f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inal FSN (S99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752480"/>
            <a:ext cx="8229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Open Allotments are used for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rmy-Wide missions performed at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Special Op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llotments are maintained by the issu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stence and clothing for enlisted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21080" y="6091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Code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75320" y="2514600"/>
            <a:ext cx="7016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savings of time and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uniformity throughout the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ease in auto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Open Allotment 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981080"/>
            <a:ext cx="76201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Special Open Allotme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f 2010, 2020, 2060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r 2070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f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2016000"/>
            <a:ext cx="502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ion Ref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ion Reimbur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47246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805040"/>
            <a:ext cx="845820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to refund erroneous or over paymen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ccount being refunded will be the same accoun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the original disbursement effected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installation or general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lation - where the related over payment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erroneous payment was made against an installation’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Direct Army Appropriation or Special Open Allotmen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- the related over payment or erroneo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payment was made against a General Open Allotment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90512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n Appropriation Refun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neous or Overpayment Cited on Docume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Identifies a Collection or Credit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ollar Amou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- Installation Appropriation Refund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inal FSN - General Appropriation Ref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2155680"/>
            <a:ext cx="7315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make collections based on the sal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goods or services which were original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inanced by a General Open Allotment, Speci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pen Allotment, or Direct Army Appropri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forms of Appropri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eimbursements, Installation and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ation 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523880"/>
            <a:ext cx="81532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when reimbursing an account where the initial payment was made out of a Direct Army Appropriation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ognition features of an Installation Appropriation Reimbursement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ther than 2010, 2060 or 2070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A other than 01, 18, or 2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” in the accounting classificatio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digit reimbursement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imbursement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752480"/>
            <a:ext cx="81532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imbursement source code is comprised of three digits and identifies the source of funding and the customer who initiated a reimbursable orde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rst digit identifies major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and third digits identify specific custom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(source of funds)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:  -265-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”   Army Inter-Appropriation Reimburs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5” OMA, National Guard (206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676520"/>
            <a:ext cx="81532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when reimbursing an account where the initial payment was made out of a General Open Allotment or a Special Open Allotment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ognition features of a General  Appropriation Reimbursement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f 2010, 2020, 2060, or 2070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” in the accounting classificatio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digit reimbursement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0020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cellaneous accounting classifications are used for disbursements and collections only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llow the Army to account for and control funds that are not earmarked for specific purposes by law and fall into one of the following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cellaneous Receipts (General, Special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and Trus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osit Funds (DA, DO, and Treasury)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actions for Others (TFOs)- ( TFO(OTA)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TFO(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600200"/>
            <a:ext cx="85345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ypes of Miscellaneous Receip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Fund Receipts - Basic Symbol of 0000-38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30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Fund Receipts - Basic Symbol of 5000-599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5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 Fund Receipts - Basic Symbol of 8000-899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8927.*00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Miscellaneous Receipt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arts - Department Code and Basic Symbo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R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21080" y="514440"/>
            <a:ext cx="4184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18840" y="3495600"/>
            <a:ext cx="2626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d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051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ree types of accounting classifications have the sam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sit Fund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905120"/>
            <a:ext cx="79246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osit Funds are collections held in suspen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emporarily and later paid into another fund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government, or held by the government as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anker or agent for others and paid out at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irection of the deposito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categories of Deposit F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Army (DA Deposit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ing Officer (DO Depos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of the Army (DA)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05120"/>
            <a:ext cx="7848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account for collections for which the Army acts 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banker or ag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 records are maintained at DA leve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nce office can only collect into these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DA Deposits a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F” or “X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“C” following the OA denotes a coll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into the f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361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Officer (DO)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1695600"/>
            <a:ext cx="7848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account for collections for which the Disbur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Officer acts as banker or ag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by the local finance officer who also has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responsibility to clear the balances of these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nce office can collect into and disburse out of the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DO Deposits a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F” or “X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“C” following the OA denotes a coll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into the f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sury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169560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ository accounts used to account for all moni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deposited into the U.S. Treasury from the financ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ffice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ed by the U.S. Treasury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offices can only collect into these accoun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gnition features of Treasury Deposits are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artment Code of “20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“X” for the F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(T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1695600"/>
            <a:ext cx="78487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s are transactions processed for members of oth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services, other departments, or other installa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within the same servic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ccounting records for TFO transactions ar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maintained by both agencie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are two types of TF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 - Army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 - Other than Arm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- Army (TFO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1828800"/>
            <a:ext cx="7086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for Others - Army (TFO-A) are for transactions within the Department of the Army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 features of TFO-A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of “21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(Not your FSN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DSSN (Disbursing Station Symbo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- Other than Army (TFO-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1676520"/>
            <a:ext cx="7086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for Others - Other than Army (TFO-OTA) are for transactions between the Department of the Army and other federal agencie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 features of TFO-OTA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other than “21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(Not your FSN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DSSN (Disbursing Station Symbo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4613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9047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9200" y="2286000"/>
            <a:ext cx="6218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Elements of the Fiscal Code and the States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DFAS-IN Manual 37-100-FY Extract and Examples of Accounting Class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 accounting classific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each of its parts with no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20% erro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52120" y="51444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es of Expenditure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83760" y="3495600"/>
            <a:ext cx="4371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rmy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pen Allo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Open Allo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94328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penditure transaction is one that will result in a payment that will be charged against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040" y="2971800"/>
            <a:ext cx="834408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asury Symb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rating Agency-Allotment Serial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S Code (AMSCO)-Element of Resou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ment Decision Pack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ctional Cost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tion Component or Country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ocument Number/Accounting Processing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 Identification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scal Station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56204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192020.00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7-31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6776.ZO-26F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4RNAA92740001/A14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4RN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0907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508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sury Symbo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 9 2020.0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108240"/>
            <a:ext cx="6324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(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 of Availability or Fiscal year (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(20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(.00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1752480"/>
            <a:ext cx="78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easury Symbol is comprised of four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520" y="6094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3657600"/>
            <a:ext cx="7099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- Executive Office of th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- Department of the Na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- Department of the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 - Department of the Air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4120" y="4800600"/>
          <a:ext cx="1623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800600"/>
                    <a:ext cx="162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629400" y="5715000"/>
          <a:ext cx="2057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5715000"/>
                    <a:ext cx="2057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7391520" y="3681360"/>
          <a:ext cx="1066680" cy="11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681360"/>
                    <a:ext cx="10666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838080" y="160020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partment Code is normally a two-digit number (can be four-digits) which identifies the military department or government entity responsible for administering the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2-11-05T15:39:30Z</dcterms:created>
  <dc:creator>CARROLL</dc:creator>
  <dc:description/>
  <dc:language>en-US</dc:language>
  <cp:lastModifiedBy>Administrator</cp:lastModifiedBy>
  <cp:lastPrinted>2001-12-21T16:46:26Z</cp:lastPrinted>
  <dcterms:modified xsi:type="dcterms:W3CDTF">2005-03-24T14:10:25Z</dcterms:modified>
  <cp:revision>46</cp:revision>
  <dc:subject>SLIDES FOR FISCAL CODE CLASS</dc:subject>
  <dc:title>FISCAL  CODE</dc:title>
</cp:coreProperties>
</file>